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A10-2935-4E6D-ACB7-53D83F42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C77-8985-4F3D-B27D-F4B7590D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576E4-D733-4AAB-A028-C7C67111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540E6-5590-4D37-BE15-4E5881C0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5D9AA-1E27-48CC-887E-46564178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33200-68CF-425D-A1C1-E478FB10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C0FAF-11C1-4CC3-A3AF-348237E2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A4090-7A5D-4793-8013-F61B5387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51ECE-CCBF-4D06-885A-3FB9237C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D4A12-2A93-429C-BAE6-994113AA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5D9FC-9D02-4D73-BD28-A4241664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F1AD0-4C71-4BDB-B767-5D449847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961-3A81-42EB-9185-57454408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91E4A-6434-463C-927D-999B23C2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C18AD-A050-4F53-899A-30771225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678C5F-917B-40E3-8CAD-1492A211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38EF2-6ED1-4F6B-82A2-6690B5AE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86B23-CEBF-4AA9-B644-8CCF0876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AC0162-6362-42C3-B919-F40CDA28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09766-C9F0-4F55-AF9D-7A4F4CAD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9044B7-CC62-4004-A709-73ECF6B9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7018A4-1916-44D9-A144-3D3535A9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C351E8-3D7F-4CB8-92D4-28F58D34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DD02-AF90-4B6C-8C5E-31BDA467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F3F574-E0D0-43FD-9645-AB0AFB43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F89CC-AE0F-48F1-8584-BC81689D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6D755-9EF3-4185-BA39-7AD6B6D0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E6CA5-09F0-44DB-B396-CCFE1DE7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6FA6D-B1C1-40D9-9758-60DC1BF3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9290B-15EF-4FB2-A7BE-9CCB840A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AA560-8E22-4F00-8084-EF111847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FEA98-29E4-4F98-A428-01FACF68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46E50-514F-4F59-A1D6-FAE1D5DB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E18B4-BCFF-4F32-A8DD-D580B517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22CE-0B1C-4137-B1EB-18268B7D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A26EB-6EA0-4097-BD3F-41373FA6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A0AF6-018F-4D93-AF3E-BBF720A7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B9E65-BA57-45AB-A6A0-C3EB73CA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8BC65-89DF-4125-9AAE-63B51852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15BD0-93DB-46DB-8C61-EEF1699F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14ECC-EF8A-4CC0-9E76-DF224ADA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FDF62-2A91-400A-897B-6D6FDCEA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A0F05-0D05-4A55-9F6E-98DF7199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AD625-DF5D-4BC2-B50F-6B0ACEA4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B2211A-D8F3-4288-A729-3130800A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C2A7-CEA4-4516-9CFB-32E7CB24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A1520-2C0E-477B-89EA-7ED63F56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1A726-0A7E-47B1-9094-FF4F73E8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EB4E6-95ED-4949-AB77-34F522E3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0C2C6-2A5E-4BCD-9183-FF73E38E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F3D0DE-FD26-4DE2-A8EB-33F0C593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7799-109A-4B33-B6D8-F2C1E22A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391D-4F82-49EB-AE0F-094E9FFD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847C-8299-4860-8E3C-969F14D8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23C5-0F0F-4260-B0D7-E80CF09C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C8A7-08B8-4396-AB5B-3FFC7E16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328-A6CE-490A-829A-5CDDE5B0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F684-A5D3-4DC9-A473-C7851DE2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9463-1A14-4D4F-B7B4-1FE6E37B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A3D5-DA48-424B-BDBC-9BCDC6C4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BC87-D53C-4652-9512-7ACBCB93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5579-7A6A-4DE3-9452-94BB3D68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45A57-63A6-4266-A176-8AABE95E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EACB4-3DE0-46CC-8BCB-E4DEED55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61DC5-0EB2-457C-9452-DB49D156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F5F0-257B-4830-A208-B206103F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48533-DBDA-4F67-B4BB-85ACD889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420-67A7-4CD9-964E-3341F48D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73905-6499-4B67-B67C-DCCF6BE2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A0FE4-A520-45ED-8959-B4F91099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F5A7D-B24F-45F5-9900-D5903193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75B25-DAE0-4F60-B849-981F787E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D1870-132B-4A4A-8F01-7C3B4906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58F3D-C696-411C-AEC7-9AFD5028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E68E7-A6FF-4E62-A6F8-E5D654EC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16DCC-E4CD-45B4-BB45-93B9BDB2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6D7A8-8AEB-4771-AEC4-1BE4462E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65DA6-9F89-439C-AF30-E7D233A0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2D6-1A1D-40B7-A061-1C67CFD8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67EB4-6091-4422-8342-85EEA10B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327D5-332B-4A63-B248-AC64C35E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56EDD-D4EC-48FC-BBB1-9CD5733E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3D188-D918-4390-B54C-CA13709F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7C77D-5B2A-429D-8521-69FA83C7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62067-81DC-4017-9336-C998AB27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3DA96-9772-4EFD-B47C-A4ADE678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03D71-C6D0-40CB-AC48-7D7DBD5A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654F-C41C-4271-BFA7-F531062D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4FDBB-0DAA-4A19-AAC3-B10F6AEE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D07-CC08-4C99-BA37-54AFF764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5978D-AF0D-4B06-B07F-DB425CA3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7E627-CA85-4031-BD36-83CD8291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5F8CD-A80B-4B24-8379-256919AC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217EE-E688-4EED-B78E-F54248D9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A25FC-243D-4ECA-AC8B-FB77631F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75834-2786-4627-AA52-F0036831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446F4-554A-43A4-A898-F2BED819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17F6E-AE4C-4A4D-A1F5-9999B266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744AE-1C20-4EF9-B9E4-AFD40B90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E3A54-A049-4F6D-BE84-F77F7739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7C9-663A-455E-8877-6CB30FF2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6AE90-8CE0-4BBF-84D1-8ADC443C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4986B-AB89-47FF-9140-79EB6D76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CAE9A-F762-4429-AA6E-FA67F6F2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E4F5D-1D57-4882-9C08-1696908A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7B9C8-105C-418E-8332-D1921941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87F58-FC07-4C64-92DC-12B976D4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6E0FB-F7CF-4077-948F-FF729E92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E2FC4-15FE-4BF3-8DE6-FC1016EE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B861A-313C-4D8D-8976-B83108D6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7CE28-AA99-49B9-9D8A-0AB39B27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6A8-5161-4E78-B5B7-534D05C4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FA309-52E2-4082-BEC1-C89CA0BB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A000E-2812-4B62-A099-BC840500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5914B-8E51-486C-BB52-A5FF4471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1B1D5-9B4B-4BAF-86D7-FA976388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FBC88-63C9-4E67-B02B-FD730666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54B9E-D04C-48AC-AB09-827F8FC4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51683-2453-4DA9-86B9-80A231A2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FA438-CCB7-4C2F-9FB3-97AC3C2C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180E5-EB0A-4DB7-B8C6-B4D403A3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C6779-440D-4A82-9476-EEAD1D59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19F-E9BE-44DD-B1E7-9BBF20AB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A80CC-6215-43CA-AEA4-02AE57BA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95B1F-253A-4EA3-AE6D-1259979C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06CDB-6B91-412E-975C-75A7268E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C0696-7A22-4F17-AB29-323C2BFE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934D3-C705-43C3-BD78-C69E863F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584F0-4B84-49FE-9C4A-1FF376D1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B7CC3-563C-4EF2-B89F-79C0D836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0654C-BD9D-477E-9EF5-0E3CB096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24ADB-0047-48A1-93A8-7B1EF2F3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D6C11-8A10-4F76-B12E-27794AA2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C6F-60A0-4800-9A23-13BCA828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47F3E-C852-4C1B-A556-B224B610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C8080-BDF6-45D6-8058-97620D2F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DE298-60C5-4598-8AFD-5407D65B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844CE-2DDE-4711-895F-3DD4D4E5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2AB35-FC75-4D93-8BFA-69AF3F4D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76A72-AE66-4B24-9AD0-2D70DF7E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F1C94-6073-4901-9F7C-38D0944F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049E4-6C78-46C8-9805-1FAD30AB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D0CCE-BF4A-413F-BC77-44FF8C95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64DB5-FB07-411E-98CD-6277BFA7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090B-2A52-4952-93F4-3171A6847589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0454-0933-4251-A421-A9DE423BFAD5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8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DDC8-2150-4EF7-BC80-990FC2984C10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8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4111-735C-434B-AAE7-7E70F35BDD49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8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CA21-E474-49E0-B1E4-39B3CAF02ED6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8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0D6D-9D35-42DA-A221-E2CD1FA7C5C9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0C1D-6D35-4329-B6D9-F9FE262E1B7A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8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7030a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6C9F-CF24-48E8-B191-DB3AF9F93B60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8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7030a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3383-3EA4-47DF-8A5A-F965C14F97AF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B242-38C6-41B3-A46C-8F0319B85244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B6EF-0CEB-481C-9B0F-AAD85F96E85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0b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0b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2d05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daa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ff38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0b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0462-8041-4779-B36E-6A941289E339}" type="slidenum">
              <a:rPr b="0" lang="en-US" sz="1600" spc="-1" strike="noStrike">
                <a:solidFill>
                  <a:srgbClr val="80b74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f0"/>
                </a:solidFill>
                <a:latin typeface="Georgia"/>
              </a:rPr>
              <a:t>Impulse and Momentum</a:t>
            </a:r>
            <a:endParaRPr b="0" lang="en-US" sz="4200" spc="-1" strike="noStrike">
              <a:solidFill>
                <a:srgbClr val="80b745"/>
              </a:solidFill>
              <a:latin typeface="Georgia"/>
            </a:endParaRPr>
          </a:p>
        </p:txBody>
      </p:sp>
      <p:pic>
        <p:nvPicPr>
          <p:cNvPr id="607" name="Picture 2" descr="http://agsinger.com/pics/momentum.jpg"/>
          <p:cNvPicPr/>
          <p:nvPr/>
        </p:nvPicPr>
        <p:blipFill>
          <a:blip r:embed="rId1"/>
          <a:stretch/>
        </p:blipFill>
        <p:spPr>
          <a:xfrm>
            <a:off x="2743200" y="3276720"/>
            <a:ext cx="342900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Terminology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Impulse: F</a:t>
            </a:r>
            <a:r>
              <a:rPr b="0" lang="el-GR" sz="2700" spc="-1" strike="noStrike">
                <a:solidFill>
                  <a:srgbClr val="ff388c"/>
                </a:solidFill>
                <a:latin typeface="Georgia"/>
              </a:rPr>
              <a:t>Δ</a:t>
            </a: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, or the product of the average force on  object and the time interval over which it acts (measures in Newton-seconds)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Momentum: mv, or the product of the object’s mass and the objects velocity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Impulse-momentum Theorem: F</a:t>
            </a:r>
            <a:r>
              <a:rPr b="0" lang="el-GR" sz="2700" spc="-1" strike="noStrike">
                <a:solidFill>
                  <a:srgbClr val="ff388c"/>
                </a:solidFill>
                <a:latin typeface="Georgia"/>
              </a:rPr>
              <a:t>Δ</a:t>
            </a: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= p</a:t>
            </a:r>
            <a:r>
              <a:rPr b="0" lang="en-US" sz="2700" spc="-1" strike="noStrike" baseline="-25000">
                <a:solidFill>
                  <a:srgbClr val="ff388c"/>
                </a:solidFill>
                <a:latin typeface="Georgia"/>
              </a:rPr>
              <a:t>f </a:t>
            </a: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–p</a:t>
            </a:r>
            <a:r>
              <a:rPr b="0" lang="en-US" sz="2700" spc="-1" strike="noStrike" baseline="-25000">
                <a:solidFill>
                  <a:srgbClr val="ff388c"/>
                </a:solidFill>
                <a:latin typeface="Georgia"/>
              </a:rPr>
              <a:t>i</a:t>
            </a: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 ; The impulse on an object is equal to the object’s final momentum mines the object’s initial momentum (p= momentum)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oncepts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e momentum of an object is the product of its mass and velocity and is a vector quantitiy.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e impulse of an object is the average net force exerts on the object multiplied by the time interval over which the force acts.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The impulse on an object is equal to the change in momentum of the object.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Questions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88c"/>
                </a:solidFill>
                <a:latin typeface="Georgia"/>
              </a:rPr>
              <a:t>A pitcher claims he can throw a 0.151 kg baseball with as much momentum as a 3.0 g bullet moving with a speed of 1.50  10</a:t>
            </a:r>
            <a:r>
              <a:rPr b="0" lang="en-US" sz="2100" spc="-1" strike="noStrike" baseline="30000">
                <a:solidFill>
                  <a:srgbClr val="ff388c"/>
                </a:solidFill>
                <a:latin typeface="Georgia"/>
              </a:rPr>
              <a:t>3</a:t>
            </a:r>
            <a:r>
              <a:rPr b="0" lang="en-US" sz="2100" spc="-1" strike="noStrike">
                <a:solidFill>
                  <a:srgbClr val="ff388c"/>
                </a:solidFill>
                <a:latin typeface="Georgia"/>
              </a:rPr>
              <a:t> m/s. Which of the following is true</a:t>
            </a:r>
            <a:endParaRPr b="0" lang="en-US" sz="2100" spc="-1" strike="noStrike">
              <a:solidFill>
                <a:srgbClr val="ff388c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2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0" lang="en-US" sz="1700" spc="-1" strike="noStrike">
                <a:solidFill>
                  <a:srgbClr val="7030a0"/>
                </a:solidFill>
                <a:latin typeface="Georgia"/>
              </a:rPr>
              <a:t>a) ball has greater kinetic energy.</a:t>
            </a:r>
            <a:endParaRPr b="0" lang="en-US" sz="1700" spc="-1" strike="noStrike">
              <a:solidFill>
                <a:srgbClr val="7030a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7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Georgia"/>
              </a:rPr>
              <a:t>b) both have the same kinetic energy.    </a:t>
            </a:r>
            <a:endParaRPr b="0" lang="en-US" sz="1900" spc="-1" strike="noStrike">
              <a:solidFill>
                <a:srgbClr val="7030a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7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Georgia"/>
              </a:rPr>
              <a:t>c) the bullet has greater kinetic energy.</a:t>
            </a:r>
            <a:endParaRPr b="0" lang="en-US" sz="1900" spc="-1" strike="noStrike">
              <a:solidFill>
                <a:srgbClr val="7030a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7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Georgia"/>
              </a:rPr>
              <a:t>None of the above</a:t>
            </a:r>
            <a:endParaRPr b="0" lang="en-US" sz="1900" spc="-1" strike="noStrike">
              <a:solidFill>
                <a:srgbClr val="7030a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388c"/>
                </a:solidFill>
                <a:latin typeface="Georgia"/>
              </a:rPr>
              <a:t>A pitcher throws a 0.15 kg baseball so that it crosses home plate horizontally with a speed of 10 m/s. It is hit straight back at the pitcher with a final speed of 24 m/s. Assume the direction of the initial motion of the baseball to be positive.</a:t>
            </a:r>
            <a:endParaRPr b="0" lang="en-US" sz="2300" spc="-1" strike="noStrike">
              <a:solidFill>
                <a:srgbClr val="ff388c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7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Georgia"/>
              </a:rPr>
              <a:t>What is the impulse delivered to the ball?</a:t>
            </a:r>
            <a:endParaRPr b="0" lang="en-US" sz="1900" spc="-1" strike="noStrike">
              <a:solidFill>
                <a:srgbClr val="7030a0"/>
              </a:solidFill>
              <a:latin typeface="Georgia"/>
            </a:endParaRPr>
          </a:p>
          <a:p>
            <a:pPr lvl="1" marL="531000" indent="-264600">
              <a:lnSpc>
                <a:spcPct val="90000"/>
              </a:lnSpc>
              <a:spcBef>
                <a:spcPts val="47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Georgia"/>
              </a:rPr>
              <a:t>Find the average force exerted by the bat on the ball if the two are in contact for 2.0  10</a:t>
            </a:r>
            <a:r>
              <a:rPr b="0" lang="en-US" sz="1900" spc="-1" strike="noStrike" baseline="30000">
                <a:solidFill>
                  <a:srgbClr val="7030a0"/>
                </a:solidFill>
                <a:latin typeface="Georgia"/>
              </a:rPr>
              <a:t>-3</a:t>
            </a:r>
            <a:r>
              <a:rPr b="0" lang="en-US" sz="1900" spc="-1" strike="noStrike">
                <a:solidFill>
                  <a:srgbClr val="7030a0"/>
                </a:solidFill>
                <a:latin typeface="Georgia"/>
              </a:rPr>
              <a:t> s.</a:t>
            </a:r>
            <a:endParaRPr b="0" lang="en-US" sz="1900" spc="-1" strike="noStrike">
              <a:solidFill>
                <a:srgbClr val="7030a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Equations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680" y="2209680"/>
            <a:ext cx="403848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F=MA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F=M (</a:t>
            </a:r>
            <a:r>
              <a:rPr b="0" lang="el-GR" sz="2500" spc="-1" strike="noStrike">
                <a:solidFill>
                  <a:srgbClr val="ff388c"/>
                </a:solidFill>
                <a:latin typeface="Georgia"/>
              </a:rPr>
              <a:t>Δ</a:t>
            </a: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V/</a:t>
            </a:r>
            <a:r>
              <a:rPr b="0" lang="el-GR" sz="2500" spc="-1" strike="noStrike">
                <a:solidFill>
                  <a:srgbClr val="ff388c"/>
                </a:solidFill>
                <a:latin typeface="Georgia"/>
              </a:rPr>
              <a:t> Δ</a:t>
            </a: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T)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P=MV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F</a:t>
            </a:r>
            <a:r>
              <a:rPr b="0" lang="el-GR" sz="2500" spc="-1" strike="noStrike">
                <a:solidFill>
                  <a:srgbClr val="ff388c"/>
                </a:solidFill>
                <a:latin typeface="Georgia"/>
              </a:rPr>
              <a:t>Δ</a:t>
            </a: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t= M</a:t>
            </a:r>
            <a:r>
              <a:rPr b="0" lang="el-GR" sz="2500" spc="-1" strike="noStrike">
                <a:solidFill>
                  <a:srgbClr val="ff388c"/>
                </a:solidFill>
                <a:latin typeface="Georgia"/>
              </a:rPr>
              <a:t>Δ</a:t>
            </a: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V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800600" y="2057040"/>
            <a:ext cx="403848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P= momentum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V=veolicity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M= mass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F= force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88c"/>
                </a:solidFill>
                <a:latin typeface="Georgia"/>
              </a:rPr>
              <a:t>T= time</a:t>
            </a:r>
            <a:endParaRPr b="0" lang="en-US" sz="25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f0"/>
                </a:solidFill>
                <a:latin typeface="Georgia"/>
              </a:rPr>
              <a:t>Conservation of Linear Momentum in Collisions</a:t>
            </a:r>
            <a:endParaRPr b="0" lang="en-US" sz="4200" spc="-1" strike="noStrike">
              <a:solidFill>
                <a:srgbClr val="80b745"/>
              </a:solidFill>
              <a:latin typeface="Georgia"/>
            </a:endParaRPr>
          </a:p>
        </p:txBody>
      </p:sp>
      <p:pic>
        <p:nvPicPr>
          <p:cNvPr id="618" name="Picture 2" descr="crash test"/>
          <p:cNvPicPr/>
          <p:nvPr/>
        </p:nvPicPr>
        <p:blipFill>
          <a:blip r:embed="rId1"/>
          <a:stretch/>
        </p:blipFill>
        <p:spPr>
          <a:xfrm>
            <a:off x="2743200" y="3276720"/>
            <a:ext cx="39258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Terminology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Closed system: a system that does not gain or lose mass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Isolated system: a closed system on which the net external force is zero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388c"/>
                </a:solidFill>
                <a:latin typeface="Georgia"/>
              </a:rPr>
              <a:t>Law of conservation of momentum: states that the momentum of any closed, isolated system does not change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Concepts and Equations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In a linear collision, momentum is neither gained nor loss. Momentum is transferred to another object.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½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² + ½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²= ½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f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f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² + ½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f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f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²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 + 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= 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f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 + 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f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 + 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i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= v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f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 (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1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+ m</a:t>
            </a:r>
            <a:r>
              <a:rPr b="1" lang="en-US" sz="2700" spc="-1" strike="noStrike" baseline="-25000">
                <a:solidFill>
                  <a:srgbClr val="ff388c"/>
                </a:solidFill>
                <a:latin typeface="Georgia"/>
              </a:rPr>
              <a:t>2</a:t>
            </a:r>
            <a:r>
              <a:rPr b="1" lang="en-US" sz="2700" spc="-1" strike="noStrike">
                <a:solidFill>
                  <a:srgbClr val="ff388c"/>
                </a:solidFill>
                <a:latin typeface="Georgia"/>
              </a:rPr>
              <a:t>)</a:t>
            </a: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38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0b745"/>
                </a:solidFill>
                <a:latin typeface="Georgia"/>
              </a:rPr>
              <a:t>Quesions</a:t>
            </a:r>
            <a:endParaRPr b="0" lang="en-US" sz="3300" spc="-1" strike="noStrike">
              <a:solidFill>
                <a:srgbClr val="80b745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425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88c"/>
                </a:solidFill>
                <a:latin typeface="Georgia"/>
              </a:rPr>
              <a:t>A 1245 kg car traveling initially with a speed of 25.0 m/s in an easterly direction crashes into the rear end of a 9100 kg truck moving in the same direction at 20.0 m/s. The velocity of the car right after the collision is 18.0 m/s to the east.</a:t>
            </a:r>
            <a:endParaRPr b="0" lang="en-US" sz="1700" spc="-1" strike="noStrike">
              <a:solidFill>
                <a:srgbClr val="ff388c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349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Georgia"/>
              </a:rPr>
              <a:t>What is the velocity of the truck right after the collision?</a:t>
            </a:r>
            <a:endParaRPr b="0" lang="en-US" sz="1400" spc="-1" strike="noStrike">
              <a:solidFill>
                <a:srgbClr val="7030a0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42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030a0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42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030a0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42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030a0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425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030a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499"/>
              </a:spcBef>
              <a:buClr>
                <a:srgbClr val="00b0f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88c"/>
                </a:solidFill>
                <a:latin typeface="Georgia"/>
              </a:rPr>
              <a:t>In a football game, a receiver is standing still, having just caught a pass. Before he can move, a tackler, running at a velocity of +4.8 m/s, grabs him. The tackler holds onto the receiver, and the two move off together with a velocity of +2.6 m/s. The mass of the tackler is 116 kg. Assuming that momentum is conserved, find the mass of the receiver. </a:t>
            </a:r>
            <a:endParaRPr b="0" lang="en-US" sz="2000" spc="-1" strike="noStrike">
              <a:solidFill>
                <a:srgbClr val="ff388c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32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030a0"/>
                </a:solidFill>
                <a:latin typeface="Georgia"/>
              </a:rPr>
              <a:t>A) 121 kg</a:t>
            </a:r>
            <a:endParaRPr b="0" lang="en-US" sz="1300" spc="-1" strike="noStrike">
              <a:solidFill>
                <a:srgbClr val="7030a0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32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030a0"/>
                </a:solidFill>
                <a:latin typeface="Georgia"/>
              </a:rPr>
              <a:t>B)107 kg</a:t>
            </a:r>
            <a:endParaRPr b="0" lang="en-US" sz="1300" spc="-1" strike="noStrike">
              <a:solidFill>
                <a:srgbClr val="7030a0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32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030a0"/>
                </a:solidFill>
                <a:latin typeface="Georgia"/>
              </a:rPr>
              <a:t>C)  73 kg</a:t>
            </a:r>
            <a:endParaRPr b="0" lang="en-US" sz="1300" spc="-1" strike="noStrike">
              <a:solidFill>
                <a:srgbClr val="7030a0"/>
              </a:solidFill>
              <a:latin typeface="Georgia"/>
            </a:endParaRPr>
          </a:p>
          <a:p>
            <a:pPr lvl="1" marL="519840" indent="-259200">
              <a:lnSpc>
                <a:spcPct val="90000"/>
              </a:lnSpc>
              <a:spcBef>
                <a:spcPts val="326"/>
              </a:spcBef>
              <a:buClr>
                <a:srgbClr val="00b05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030a0"/>
                </a:solidFill>
                <a:latin typeface="Georgia"/>
              </a:rPr>
              <a:t>D) 98 kg</a:t>
            </a:r>
            <a:endParaRPr b="0" lang="en-US" sz="1300" spc="-1" strike="noStrike">
              <a:solidFill>
                <a:srgbClr val="7030a0"/>
              </a:solidFill>
              <a:latin typeface="Georgia"/>
            </a:endParaRPr>
          </a:p>
        </p:txBody>
      </p:sp>
      <p:pic>
        <p:nvPicPr>
          <p:cNvPr id="625" name="Picture 2" descr="http://www.webassign.net/sb5/p9-21.gif"/>
          <p:cNvPicPr/>
          <p:nvPr/>
        </p:nvPicPr>
        <p:blipFill>
          <a:blip r:embed="rId1"/>
          <a:srcRect l="0" t="18899" r="0" b="0"/>
          <a:stretch/>
        </p:blipFill>
        <p:spPr>
          <a:xfrm>
            <a:off x="2057400" y="2590920"/>
            <a:ext cx="48672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23:36:56Z</dcterms:created>
  <dc:creator>Jackie</dc:creator>
  <dc:description/>
  <dc:language>en-US</dc:language>
  <cp:lastModifiedBy>Lisa</cp:lastModifiedBy>
  <dcterms:modified xsi:type="dcterms:W3CDTF">2011-01-22T02:10:29Z</dcterms:modified>
  <cp:revision>1</cp:revision>
  <dc:subject/>
  <dc:title>Impulse and Momentum</dc:title>
</cp:coreProperties>
</file>